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1"/>
          </p:nvPr>
        </p:nvSpPr>
        <p:spPr>
          <a:xfrm>
            <a:off x="38876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7B9BA84-1B9F-4261-AD2E-960D671D40A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32040" y="7491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749480"/>
            <a:ext cx="5492880" cy="449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2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3"/>
          </p:nvPr>
        </p:nvSpPr>
        <p:spPr>
          <a:xfrm>
            <a:off x="38876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6AB3D85-1EFC-435D-9A3D-CD3D7C340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76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FD4C0BC-8EC5-42B4-BAB8-D73DA4464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0600" y="4706640"/>
            <a:ext cx="53578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673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673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82520"/>
          </a:xfrm>
          <a:prstGeom prst="rect">
            <a:avLst/>
          </a:prstGeom>
          <a:solidFill>
            <a:srgbClr val="7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325880" y="6672240"/>
            <a:ext cx="1670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7 SSA CATC. 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42920" y="6669000"/>
            <a:ext cx="1209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700" spc="-1" strike="noStrike">
                <a:solidFill>
                  <a:srgbClr val="d3d3d3"/>
                </a:solidFill>
                <a:latin typeface="Arial"/>
              </a:rPr>
              <a:t>CCNA1V4.0.Wel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CNA-Band"/>
          <p:cNvPicPr/>
          <p:nvPr/>
        </p:nvPicPr>
        <p:blipFill>
          <a:blip r:embed="rId2"/>
          <a:stretch/>
        </p:blipFill>
        <p:spPr>
          <a:xfrm>
            <a:off x="5378400" y="0"/>
            <a:ext cx="3765600" cy="182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0"/>
          <p:cNvGrpSpPr/>
          <p:nvPr/>
        </p:nvGrpSpPr>
        <p:grpSpPr>
          <a:xfrm>
            <a:off x="7746840" y="316080"/>
            <a:ext cx="1297080" cy="1432440"/>
            <a:chOff x="7746840" y="316080"/>
            <a:chExt cx="1297080" cy="1432440"/>
          </a:xfrm>
        </p:grpSpPr>
        <p:sp>
          <p:nvSpPr>
            <p:cNvPr id="7" name="Text Box 11"/>
            <p:cNvSpPr/>
            <p:nvPr/>
          </p:nvSpPr>
          <p:spPr>
            <a:xfrm>
              <a:off x="7746840" y="1395360"/>
              <a:ext cx="1297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700" spc="-1" strike="noStrike">
                  <a:solidFill>
                    <a:srgbClr val="b21a1a"/>
                  </a:solidFill>
                  <a:latin typeface="Arial Rounded MT Bold"/>
                  <a:ea typeface="Arial"/>
                </a:rPr>
                <a:t>SSA CAT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2"/>
            <p:cNvGrpSpPr/>
            <p:nvPr/>
          </p:nvGrpSpPr>
          <p:grpSpPr>
            <a:xfrm>
              <a:off x="7832520" y="316080"/>
              <a:ext cx="1155600" cy="1103040"/>
              <a:chOff x="7832520" y="316080"/>
              <a:chExt cx="1155600" cy="1103040"/>
            </a:xfrm>
          </p:grpSpPr>
          <p:sp>
            <p:nvSpPr>
              <p:cNvPr id="9" name="AutoShape 13"/>
              <p:cNvSpPr/>
              <p:nvPr/>
            </p:nvSpPr>
            <p:spPr>
              <a:xfrm>
                <a:off x="7832520" y="316080"/>
                <a:ext cx="1155600" cy="11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4"/>
              <p:cNvSpPr/>
              <p:nvPr/>
            </p:nvSpPr>
            <p:spPr>
              <a:xfrm>
                <a:off x="7832520" y="316800"/>
                <a:ext cx="1155600" cy="110088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5"/>
              <p:cNvSpPr/>
              <p:nvPr/>
            </p:nvSpPr>
            <p:spPr>
              <a:xfrm>
                <a:off x="7860600" y="345600"/>
                <a:ext cx="1098720" cy="63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6"/>
              <p:cNvSpPr/>
              <p:nvPr/>
            </p:nvSpPr>
            <p:spPr>
              <a:xfrm>
                <a:off x="8002440" y="442080"/>
                <a:ext cx="815040" cy="2257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7"/>
              <p:cNvSpPr/>
              <p:nvPr/>
            </p:nvSpPr>
            <p:spPr>
              <a:xfrm>
                <a:off x="8076240" y="728280"/>
                <a:ext cx="769680" cy="14904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8"/>
              <p:cNvSpPr/>
              <p:nvPr/>
            </p:nvSpPr>
            <p:spPr>
              <a:xfrm>
                <a:off x="8043120" y="1078920"/>
                <a:ext cx="73368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9"/>
              <p:cNvSpPr/>
              <p:nvPr/>
            </p:nvSpPr>
            <p:spPr>
              <a:xfrm>
                <a:off x="8316720" y="728280"/>
                <a:ext cx="97200" cy="1476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NA-Title"/>
          <p:cNvPicPr/>
          <p:nvPr/>
        </p:nvPicPr>
        <p:blipFill>
          <a:blip r:embed="rId2"/>
          <a:stretch/>
        </p:blipFill>
        <p:spPr>
          <a:xfrm>
            <a:off x="0" y="1930320"/>
            <a:ext cx="9140760" cy="274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314000" y="6672240"/>
            <a:ext cx="1694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7 SSA CAT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8000" y="6657120"/>
            <a:ext cx="1295280" cy="2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800" spc="-1" strike="noStrike">
                <a:solidFill>
                  <a:srgbClr val="d3d3d3"/>
                </a:solidFill>
                <a:latin typeface="Arial"/>
              </a:rPr>
              <a:t>CCNA1V3.1.1Wel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905643E-2D42-4FC6-97B9-029E35EB49FE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NA_logo-onwhite"/>
          <p:cNvPicPr/>
          <p:nvPr/>
        </p:nvPicPr>
        <p:blipFill>
          <a:blip r:embed="rId3"/>
          <a:stretch/>
        </p:blipFill>
        <p:spPr>
          <a:xfrm>
            <a:off x="438120" y="466560"/>
            <a:ext cx="3684600" cy="540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9"/>
          <p:cNvGrpSpPr/>
          <p:nvPr/>
        </p:nvGrpSpPr>
        <p:grpSpPr>
          <a:xfrm>
            <a:off x="7570800" y="316080"/>
            <a:ext cx="1297080" cy="1432440"/>
            <a:chOff x="7570800" y="316080"/>
            <a:chExt cx="1297080" cy="1432440"/>
          </a:xfrm>
        </p:grpSpPr>
        <p:sp>
          <p:nvSpPr>
            <p:cNvPr id="58" name="Text Box 10"/>
            <p:cNvSpPr/>
            <p:nvPr/>
          </p:nvSpPr>
          <p:spPr>
            <a:xfrm>
              <a:off x="7570800" y="1395360"/>
              <a:ext cx="1297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700" spc="-1" strike="noStrike">
                  <a:solidFill>
                    <a:srgbClr val="b21a1a"/>
                  </a:solidFill>
                  <a:latin typeface="Arial Rounded MT Bold"/>
                  <a:ea typeface="Arial"/>
                </a:rPr>
                <a:t>SSA CAT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7656480" y="316080"/>
              <a:ext cx="1155600" cy="1103040"/>
              <a:chOff x="7656480" y="316080"/>
              <a:chExt cx="1155600" cy="1103040"/>
            </a:xfrm>
          </p:grpSpPr>
          <p:sp>
            <p:nvSpPr>
              <p:cNvPr id="60" name="AutoShape 12"/>
              <p:cNvSpPr/>
              <p:nvPr/>
            </p:nvSpPr>
            <p:spPr>
              <a:xfrm>
                <a:off x="7656480" y="316080"/>
                <a:ext cx="1155600" cy="11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7656480" y="316800"/>
                <a:ext cx="1155600" cy="110088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7684560" y="345600"/>
                <a:ext cx="1098720" cy="63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7826400" y="442080"/>
                <a:ext cx="815040" cy="2257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7900200" y="728280"/>
                <a:ext cx="769680" cy="14904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7867080" y="1078920"/>
                <a:ext cx="73368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8140680" y="728280"/>
                <a:ext cx="97200" cy="1476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eless LANs as we know it (or not)</a:t>
            </a:r>
            <a:endParaRPr b="1" lang="en-US" sz="4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aldo Rhe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aldo.rheeder@ssacatc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M: catc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5560" y="1520640"/>
            <a:ext cx="7940880" cy="3571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lo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320920" y="1531800"/>
            <a:ext cx="4457880" cy="2390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4610160" y="2400480"/>
            <a:ext cx="2155680" cy="68580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560" y="4111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 LAN Switching &amp; Wireless – chapter 7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19120" y="2822400"/>
            <a:ext cx="7900920" cy="187992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8"/>
          <p:cNvSpPr/>
          <p:nvPr/>
        </p:nvSpPr>
        <p:spPr>
          <a:xfrm flipV="1">
            <a:off x="2797200" y="3611520"/>
            <a:ext cx="341316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6027840" y="3946680"/>
            <a:ext cx="22478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1379520" y="4251240"/>
            <a:ext cx="3665520" cy="15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4"/>
          <p:cNvSpPr/>
          <p:nvPr/>
        </p:nvSpPr>
        <p:spPr>
          <a:xfrm>
            <a:off x="1425600" y="4579920"/>
            <a:ext cx="375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560" y="4111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 LAN Switching &amp; Wireless – chapter 7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5560" y="1879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ild an extension WLAN to an existing fixed-wired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e basic parameters o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e Client for WLAN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est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77520" y="17413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2 X Linksys wireless routers (WRT300N or similar) OR SOHO equivalent Per 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mplied – some Wireless NICs (2 per Wireless Router recomm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WLAN &amp; Wireless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the design, planning, implementation, operation, and troubleshooting of Wireless 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4000"/>
          </a:bodyPr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Introduction to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802.11 (a,b,g) and Network Interface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ireless Radio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Wireless Top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ccess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pplication Design and Site Survey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roubleshooting Management, Monitoring, and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merging Technologies (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OLD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ff0000"/>
                </a:solidFill>
                <a:latin typeface="Arial"/>
              </a:rPr>
              <a:t>All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lient, AP, Bridging, Repeating, Securi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ndle no longer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Used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PC NICs (for noteboo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CI NICs (for P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–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at do/should we know at this stag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3480" y="16653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cademy offerings that teach (some)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erent Model for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only taught in C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Wireless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A70-2126-4AB3-933B-9216019D87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LAN (WLAN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41360" y="1273320"/>
            <a:ext cx="7386480" cy="5381640"/>
          </a:xfrm>
          <a:prstGeom prst="rect">
            <a:avLst/>
          </a:prstGeom>
          <a:ln w="0">
            <a:noFill/>
          </a:ln>
        </p:spPr>
      </p:pic>
      <p:sp>
        <p:nvSpPr>
          <p:cNvPr id="196" name="Straight Connector 4"/>
          <p:cNvSpPr/>
          <p:nvPr/>
        </p:nvSpPr>
        <p:spPr>
          <a:xfrm>
            <a:off x="1773360" y="2041560"/>
            <a:ext cx="11430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6"/>
          <p:cNvSpPr/>
          <p:nvPr/>
        </p:nvSpPr>
        <p:spPr>
          <a:xfrm flipV="1">
            <a:off x="2152800" y="2247480"/>
            <a:ext cx="4370400" cy="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8"/>
          <p:cNvSpPr/>
          <p:nvPr/>
        </p:nvSpPr>
        <p:spPr>
          <a:xfrm flipV="1">
            <a:off x="1317600" y="2492280"/>
            <a:ext cx="2225880" cy="64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milarities between WLAN and LA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11280" y="2082960"/>
            <a:ext cx="8055000" cy="329076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4"/>
          <p:cNvSpPr/>
          <p:nvPr/>
        </p:nvSpPr>
        <p:spPr>
          <a:xfrm>
            <a:off x="1006560" y="3154320"/>
            <a:ext cx="220968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"/>
          <p:cNvSpPr/>
          <p:nvPr/>
        </p:nvSpPr>
        <p:spPr>
          <a:xfrm>
            <a:off x="960480" y="3398760"/>
            <a:ext cx="314640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"/>
          <p:cNvSpPr/>
          <p:nvPr/>
        </p:nvSpPr>
        <p:spPr>
          <a:xfrm flipV="1">
            <a:off x="982800" y="3649680"/>
            <a:ext cx="293364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0"/>
          <p:cNvSpPr/>
          <p:nvPr/>
        </p:nvSpPr>
        <p:spPr>
          <a:xfrm>
            <a:off x="998640" y="3878280"/>
            <a:ext cx="1820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 flipV="1">
            <a:off x="922320" y="4321080"/>
            <a:ext cx="5813280" cy="64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85800" y="2583000"/>
            <a:ext cx="5013360" cy="14475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LAN Topologi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826920" y="1344600"/>
            <a:ext cx="7342200" cy="531504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1114560" y="2781360"/>
            <a:ext cx="129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116000" y="3357720"/>
            <a:ext cx="194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846680" y="3695760"/>
            <a:ext cx="3429000" cy="10587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801960" y="4816440"/>
            <a:ext cx="4367160" cy="184320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Mesh Network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723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Mesh Network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26360" cy="5083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4500720" y="1341360"/>
            <a:ext cx="5760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1116000" y="6093000"/>
            <a:ext cx="23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1214280" y="5191200"/>
            <a:ext cx="50724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0"/>
          <p:cNvSpPr/>
          <p:nvPr/>
        </p:nvSpPr>
        <p:spPr>
          <a:xfrm>
            <a:off x="3071880" y="5405400"/>
            <a:ext cx="271440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2857680" y="5619600"/>
            <a:ext cx="421452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VLAN Suppor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066760" y="1382760"/>
            <a:ext cx="4449960" cy="5214960"/>
          </a:xfrm>
          <a:prstGeom prst="rect">
            <a:avLst/>
          </a:prstGeom>
          <a:ln w="0">
            <a:noFill/>
          </a:ln>
        </p:spPr>
      </p:pic>
      <p:sp>
        <p:nvSpPr>
          <p:cNvPr id="224" name="Straight Connector 4"/>
          <p:cNvSpPr/>
          <p:nvPr/>
        </p:nvSpPr>
        <p:spPr>
          <a:xfrm>
            <a:off x="3048120" y="2073240"/>
            <a:ext cx="104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lient Association – connect to A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69880" y="1521000"/>
            <a:ext cx="7288200" cy="4694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562040" y="4237200"/>
            <a:ext cx="5143680" cy="2087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Offload Authent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9920" y="1735200"/>
            <a:ext cx="88772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Evolution of WLAN secur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73040" y="1521000"/>
            <a:ext cx="73137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more however…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Academy Offering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d Ethernet vs. 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55200" y="152064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01960" y="152064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5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7A0-8C61-4540-8352-EA580E3106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43040" y="1314360"/>
            <a:ext cx="6715080" cy="13716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utonomous AP at the Access Lay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969920" y="1521000"/>
            <a:ext cx="5311800" cy="35715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027160" y="3946680"/>
            <a:ext cx="770040" cy="998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6732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isco WLAN Implement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647640" y="2558880"/>
            <a:ext cx="7885080" cy="2094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755640" y="2189160"/>
            <a:ext cx="2233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WLAN 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5"/>
          <p:cNvSpPr/>
          <p:nvPr/>
        </p:nvSpPr>
        <p:spPr>
          <a:xfrm>
            <a:off x="3429000" y="3357720"/>
            <a:ext cx="25002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7"/>
          <p:cNvSpPr/>
          <p:nvPr/>
        </p:nvSpPr>
        <p:spPr>
          <a:xfrm>
            <a:off x="3429000" y="3857760"/>
            <a:ext cx="242892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nomous WLAN Solu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95240" y="1535040"/>
            <a:ext cx="7161480" cy="5062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4656240" y="5051520"/>
            <a:ext cx="1042920" cy="10666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nomous A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887400" y="1695600"/>
            <a:ext cx="6997680" cy="4532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1020600" y="4518000"/>
            <a:ext cx="6500880" cy="18064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nitial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11120" y="1735200"/>
            <a:ext cx="7804080" cy="4694040"/>
          </a:xfrm>
          <a:prstGeom prst="rect">
            <a:avLst/>
          </a:prstGeom>
          <a:ln w="0">
            <a:noFill/>
          </a:ln>
        </p:spPr>
      </p:pic>
      <p:sp>
        <p:nvSpPr>
          <p:cNvPr id="255" name="Straight Connector 5"/>
          <p:cNvSpPr/>
          <p:nvPr/>
        </p:nvSpPr>
        <p:spPr>
          <a:xfrm>
            <a:off x="2000160" y="3214800"/>
            <a:ext cx="57168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000160" y="3870360"/>
            <a:ext cx="3000600" cy="71424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1984320" y="6033960"/>
            <a:ext cx="121464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utonomous vs Lightweight A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919160" y="1973160"/>
            <a:ext cx="5515200" cy="3148200"/>
          </a:xfrm>
          <a:prstGeom prst="rect">
            <a:avLst/>
          </a:prstGeom>
          <a:ln w="0">
            <a:noFill/>
          </a:ln>
        </p:spPr>
      </p:pic>
      <p:sp>
        <p:nvSpPr>
          <p:cNvPr id="260" name="Oval 8"/>
          <p:cNvSpPr/>
          <p:nvPr/>
        </p:nvSpPr>
        <p:spPr>
          <a:xfrm>
            <a:off x="2506680" y="1989000"/>
            <a:ext cx="4329000" cy="254484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5775480" y="3867120"/>
            <a:ext cx="830160" cy="538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2576520" y="3703680"/>
            <a:ext cx="1146240" cy="156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ghtweight WLAN Solu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47720" y="1565280"/>
            <a:ext cx="7280280" cy="50324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1973520" y="5023800"/>
            <a:ext cx="51984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8120" y="5494320"/>
            <a:ext cx="1523880" cy="54144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716360" y="5127480"/>
            <a:ext cx="1044720" cy="99072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ghtweight 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79280" y="1584360"/>
            <a:ext cx="5500800" cy="4581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395280" y="3456000"/>
            <a:ext cx="923760" cy="330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4733280" y="2928960"/>
            <a:ext cx="42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0000"/>
                </a:solidFill>
                <a:latin typeface="Arial"/>
              </a:rPr>
              <a:t>-Data &amp; control traffic encaps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0000"/>
                </a:solidFill>
                <a:latin typeface="Arial"/>
              </a:rPr>
              <a:t>-Control traffic also encrypted (A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560" y="358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ightweight WLAN Controller Configur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82640" y="1735200"/>
            <a:ext cx="6772320" cy="4591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1349280" y="5464080"/>
            <a:ext cx="3062520" cy="7923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295280"/>
            <a:ext cx="1317600" cy="520092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1828800"/>
            <a:ext cx="9056520" cy="4484520"/>
          </a:xfrm>
          <a:prstGeom prst="rect">
            <a:avLst/>
          </a:prstGeom>
          <a:solidFill>
            <a:srgbClr val="add4d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0" y="3228840"/>
            <a:ext cx="9056520" cy="0"/>
          </a:xfrm>
          <a:prstGeom prst="line">
            <a:avLst/>
          </a:prstGeom>
          <a:ln w="28440">
            <a:solidFill>
              <a:srgbClr val="d0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8440" y="4710240"/>
            <a:ext cx="9029880" cy="0"/>
          </a:xfrm>
          <a:prstGeom prst="line">
            <a:avLst/>
          </a:prstGeom>
          <a:ln w="28440">
            <a:solidFill>
              <a:srgbClr val="d0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920" y="441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708ca1"/>
                </a:solidFill>
                <a:latin typeface="Arial"/>
              </a:rPr>
              <a:t>Networking Academy Product Portfolio</a:t>
            </a:r>
            <a:br>
              <a:rPr sz="3200"/>
            </a:b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251400" y="1828800"/>
            <a:ext cx="1433520" cy="286380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00400" y="1828800"/>
            <a:ext cx="2438280" cy="448452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298520" y="3228840"/>
            <a:ext cx="1433520" cy="308448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295280" y="6324480"/>
            <a:ext cx="784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" rIns="9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295280" y="6400800"/>
            <a:ext cx="784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183b7"/>
                </a:solidFill>
                <a:latin typeface="Arial"/>
              </a:rPr>
              <a:t>Student Networking Knowledge and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-6480" y="4749840"/>
            <a:ext cx="13017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twork Inst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sic IT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Ad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-28440" y="3454560"/>
            <a:ext cx="132372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mall and Medium Busines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0" y="2219400"/>
            <a:ext cx="129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terpris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0" y="1373040"/>
            <a:ext cx="1308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4419720" y="2819520"/>
            <a:ext cx="1704960" cy="1704960"/>
          </a:xfrm>
          <a:prstGeom prst="ellipse">
            <a:avLst/>
          </a:prstGeom>
          <a:solidFill>
            <a:srgbClr val="efb525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"/>
          <p:cNvSpPr/>
          <p:nvPr/>
        </p:nvSpPr>
        <p:spPr>
          <a:xfrm>
            <a:off x="2998800" y="3352680"/>
            <a:ext cx="1704960" cy="1704960"/>
          </a:xfrm>
          <a:prstGeom prst="ellipse">
            <a:avLst/>
          </a:prstGeom>
          <a:solidFill>
            <a:srgbClr val="678dc5"/>
          </a:solidFill>
          <a:ln w="76320">
            <a:solidFill>
              <a:srgbClr val="3e6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200400" y="3657600"/>
            <a:ext cx="1954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A-Disc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itch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Ns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 to Adv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2805480" y="4311000"/>
            <a:ext cx="281520" cy="369720"/>
            <a:chOff x="2805480" y="4311000"/>
            <a:chExt cx="281520" cy="369720"/>
          </a:xfrm>
        </p:grpSpPr>
        <p:sp>
          <p:nvSpPr>
            <p:cNvPr id="137" name="Rectangle 20"/>
            <p:cNvSpPr/>
            <p:nvPr/>
          </p:nvSpPr>
          <p:spPr>
            <a:xfrm flipH="1" rot="1033800">
              <a:off x="2812680" y="4348080"/>
              <a:ext cx="266760" cy="903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"/>
            <p:cNvSpPr/>
            <p:nvPr/>
          </p:nvSpPr>
          <p:spPr>
            <a:xfrm flipH="1" rot="6433800">
              <a:off x="2851560" y="4483440"/>
              <a:ext cx="304560" cy="795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Oval 22"/>
          <p:cNvSpPr/>
          <p:nvPr/>
        </p:nvSpPr>
        <p:spPr>
          <a:xfrm>
            <a:off x="6996240" y="1730520"/>
            <a:ext cx="1704960" cy="1704960"/>
          </a:xfrm>
          <a:prstGeom prst="ellipse">
            <a:avLst/>
          </a:prstGeom>
          <a:solidFill>
            <a:srgbClr val="aa78c6"/>
          </a:solidFill>
          <a:ln w="76320">
            <a:solidFill>
              <a:srgbClr val="8a44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182000" y="1996920"/>
            <a:ext cx="1954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P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alable Internetwork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e Converged WANs Multilayer Switching Converged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5"/>
          <p:cNvSpPr/>
          <p:nvPr/>
        </p:nvSpPr>
        <p:spPr>
          <a:xfrm>
            <a:off x="6095880" y="3581280"/>
            <a:ext cx="1105200" cy="1096920"/>
          </a:xfrm>
          <a:prstGeom prst="ellipse">
            <a:avLst/>
          </a:prstGeom>
          <a:solidFill>
            <a:srgbClr val="a0c02a"/>
          </a:solidFill>
          <a:ln w="76320">
            <a:solidFill>
              <a:srgbClr val="89a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6180120" y="3925800"/>
            <a:ext cx="936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362240"/>
                <a:tab algn="l" pos="2724120"/>
                <a:tab algn="l" pos="4086360"/>
                <a:tab algn="l" pos="5448240"/>
                <a:tab algn="l" pos="6810480"/>
                <a:tab algn="l" pos="8172360"/>
                <a:tab algn="l" pos="9534600"/>
                <a:tab algn="l" pos="10896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162080" y="3890880"/>
            <a:ext cx="1704960" cy="1704960"/>
          </a:xfrm>
          <a:prstGeom prst="ellipse">
            <a:avLst/>
          </a:prstGeom>
          <a:solidFill>
            <a:srgbClr val="c0c0c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227240" y="4419720"/>
            <a:ext cx="1954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S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: PC HW &amp; 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4697280" y="3133800"/>
            <a:ext cx="19544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A-Exp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itch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Ns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 to Adv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1"/>
          <p:cNvGrpSpPr/>
          <p:nvPr/>
        </p:nvGrpSpPr>
        <p:grpSpPr>
          <a:xfrm>
            <a:off x="5929560" y="3168000"/>
            <a:ext cx="281520" cy="369720"/>
            <a:chOff x="5929560" y="3168000"/>
            <a:chExt cx="281520" cy="369720"/>
          </a:xfrm>
        </p:grpSpPr>
        <p:sp>
          <p:nvSpPr>
            <p:cNvPr id="147" name="Rectangle 32"/>
            <p:cNvSpPr/>
            <p:nvPr/>
          </p:nvSpPr>
          <p:spPr>
            <a:xfrm flipH="1" rot="1033800">
              <a:off x="5936760" y="3205080"/>
              <a:ext cx="266760" cy="903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 flipH="1" rot="6433800">
              <a:off x="5975640" y="3340440"/>
              <a:ext cx="304560" cy="795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9" name="Straight Arrow Connector 34"/>
          <p:cNvCxnSpPr>
            <a:endCxn id="144" idx="2"/>
          </p:cNvCxnSpPr>
          <p:nvPr/>
        </p:nvCxnSpPr>
        <p:spPr>
          <a:xfrm flipH="1" flipV="1">
            <a:off x="2204280" y="4947480"/>
            <a:ext cx="1126440" cy="965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0" name="Straight Arrow Connector 36"/>
          <p:cNvCxnSpPr/>
          <p:nvPr/>
        </p:nvCxnSpPr>
        <p:spPr>
          <a:xfrm flipV="1">
            <a:off x="3321720" y="4663800"/>
            <a:ext cx="471960" cy="1249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1" name="Straight Arrow Connector 39"/>
          <p:cNvCxnSpPr/>
          <p:nvPr/>
        </p:nvCxnSpPr>
        <p:spPr>
          <a:xfrm flipV="1">
            <a:off x="3330720" y="4106520"/>
            <a:ext cx="2064240" cy="1815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2" name="Straight Arrow Connector 41"/>
          <p:cNvCxnSpPr>
            <a:endCxn id="141" idx="3"/>
          </p:cNvCxnSpPr>
          <p:nvPr/>
        </p:nvCxnSpPr>
        <p:spPr>
          <a:xfrm flipV="1">
            <a:off x="3344760" y="4517640"/>
            <a:ext cx="2913840" cy="1404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3" name="Straight Arrow Connector 44"/>
          <p:cNvCxnSpPr/>
          <p:nvPr/>
        </p:nvCxnSpPr>
        <p:spPr>
          <a:xfrm flipV="1">
            <a:off x="3382560" y="2857320"/>
            <a:ext cx="3840840" cy="3078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4" name="Oval 45"/>
          <p:cNvSpPr/>
          <p:nvPr/>
        </p:nvSpPr>
        <p:spPr>
          <a:xfrm>
            <a:off x="3200400" y="5775480"/>
            <a:ext cx="282600" cy="266400"/>
          </a:xfrm>
          <a:prstGeom prst="ellipse">
            <a:avLst/>
          </a:prstGeom>
          <a:solidFill>
            <a:srgbClr val="c00000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5"/>
          <p:cNvSpPr/>
          <p:nvPr/>
        </p:nvSpPr>
        <p:spPr>
          <a:xfrm>
            <a:off x="5654520" y="1905120"/>
            <a:ext cx="1206720" cy="1214280"/>
          </a:xfrm>
          <a:prstGeom prst="ellipse">
            <a:avLst/>
          </a:prstGeom>
          <a:solidFill>
            <a:srgbClr val="a0c02a"/>
          </a:solidFill>
          <a:ln w="76320">
            <a:solidFill>
              <a:srgbClr val="89a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761080" y="2219400"/>
            <a:ext cx="110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362240"/>
                <a:tab algn="l" pos="2724120"/>
                <a:tab algn="l" pos="4086360"/>
                <a:tab algn="l" pos="5448240"/>
                <a:tab algn="l" pos="6810480"/>
                <a:tab algn="l" pos="8172360"/>
                <a:tab algn="l" pos="9534600"/>
                <a:tab algn="l" pos="10896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CNA-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6060240" y="1889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onfiguring the WL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4760" y="1627200"/>
            <a:ext cx="63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onfiguring the WL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771480" y="1833480"/>
            <a:ext cx="71992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CNP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0000"/>
          </a:bodyPr>
          <a:p>
            <a:pPr marL="165240" indent="-16524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uilding Multi-Layer Scalable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ntroducing 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top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Configuring WLAN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mplementing 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utonomous 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LW APs &amp; WLAN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Optimizing Converged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mplement WLAN Security &amp;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WLAN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Managing WLANs (WLSE &amp; W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ing the W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ing Wireles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nd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Internal or External WLAN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X LWAPs with Anten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X PCI Wireless 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–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else is out ther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CNA® Wire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onfiguring, monitoring and troubleshooting basic tasks of a Cisco WLAN in SMB and Enterprise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ert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640-721 IU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mplementing Cisco Unified Wireless Networking Ess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Exam Number: 640-7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e-requisite: CC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The future – CCNA Wirel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896080" y="4435560"/>
            <a:ext cx="2184120" cy="191592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5"/>
          <p:cNvCxnSpPr/>
          <p:nvPr/>
        </p:nvCxnSpPr>
        <p:spPr>
          <a:xfrm flipV="1">
            <a:off x="5037120" y="5455800"/>
            <a:ext cx="1456560" cy="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1000"/>
          </a:bodyPr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LAN RF princ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LAN technologies and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ntennae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802.11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less medi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d to wireless network packe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Cisco Unified Wireless Networks basic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Controller discovery, association,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Adding mobility with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Migrating standalone AP to LW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Mobility Expres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les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Installing and configuring the W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ecuring, maintaining, and troubleshooting wireless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Wireless Top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en will we see the Academy version of this cours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E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3. Install the Physical WNIC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like any other interface card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8. Briefly describe WLAN &amp; Wireless Ethernet Standards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mention media &amp; 802.11 standard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9. Describe Wireless Security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mention security in Wireles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3. Laptops - Describe Wi-Fi technology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repeat media, standards &amp; security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5. Install &amp; Configure Wireless NIC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brief overview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7000"/>
          </a:bodyPr>
          <a:p>
            <a:pPr marL="181800" indent="-181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3. Install the Physical W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-PHYSICAL HW INSTALL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8. Briefly describe WLAN &amp; Wireless Etherne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9. Describe Wirel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1. Laptops - Describe Wi-Fi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5. Install &amp; Configure Wireless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INSTALL WNIC &amp;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CONNECT TO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commen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Linksys WRT300N Wireless Router per 2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Compatible Wireless NIC pe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ini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Linksys WRT300N Wireless Router for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PCs with Compatible Wireless 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CNA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7:29:33Z</dcterms:created>
  <dc:creator>renaldo</dc:creator>
  <dc:description/>
  <dc:language>en-US</dc:language>
  <cp:lastModifiedBy>renaldo</cp:lastModifiedBy>
  <dcterms:modified xsi:type="dcterms:W3CDTF">2009-03-24T10:11:09Z</dcterms:modified>
  <cp:revision>104</cp:revision>
  <dc:subject/>
  <dc:title>Slide 1</dc:title>
</cp:coreProperties>
</file>